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39C9B-FEEB-433E-8C08-A3DB80B1B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536B2-E9A2-4956-9087-15F1711C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3581D-50C9-482B-9387-08B9D08C9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BF9B4-8975-4F77-B074-24292903E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11D8-8198-4941-898E-80C1E9728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C94B8-0173-4E61-9ECC-8ABB51B1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E543-CEDE-40E1-8FA4-4B95FD07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E9DB-926D-4D94-B839-CABC4C8F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9500-7799-4A57-B693-DF4BB361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E24B-6CAA-4EF9-9432-9148024A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DE2A-E437-4D52-87A5-D207FDEA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56C8E-1A80-44BD-9678-6BEFCAD9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DD4DB-BA4B-4B1E-9241-2FB79947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3E6D-6ABC-4302-808C-78E0FD0F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9497-97A2-425E-BCBF-D16BC90C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4D92-5D50-48C9-A321-7FDC2423D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C7E36-7DDE-4300-B463-091A396C9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3A761-6064-400C-A1BA-AE8AAACB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10DF6-F7ED-4D12-9E54-9C01B848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EB4BB-D2B0-4524-BF13-F948442D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0C5E0-4A1B-496E-8851-8D231333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7A049-1C00-46AD-B6A4-4161B077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433A4-6B66-4F45-A379-311D0D8A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AB34A-FBF2-482B-9416-CA452343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CF80-4421-43E0-B827-470D2C17DE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3E25-84C4-4E5C-93B4-CB0A75919E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58920" y="691920"/>
            <a:ext cx="7197840" cy="104436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50000">
                <a:srgbClr val="fefefe"/>
              </a:gs>
              <a:gs pos="100000">
                <a:srgbClr val="6666ff"/>
              </a:gs>
            </a:gsLst>
            <a:lin ang="8100000"/>
          </a:gra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b5b89"/>
                </a:solidFill>
                <a:latin typeface="Arial"/>
              </a:rPr>
              <a:t>Year 8 - IC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755640" y="2133360"/>
            <a:ext cx="79200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ation with Powerpoi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of themes &amp; master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of movement – animations / tran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xt box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p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Advantages of using a 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slide design or theme: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rcRect l="0" t="13585" r="0" b="11611"/>
          <a:stretch/>
        </p:blipFill>
        <p:spPr>
          <a:xfrm>
            <a:off x="250920" y="1844640"/>
            <a:ext cx="833256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5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hat is a slide master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rcRect l="15770" t="0" r="19355" b="15898"/>
          <a:stretch/>
        </p:blipFill>
        <p:spPr>
          <a:xfrm>
            <a:off x="1763640" y="1197000"/>
            <a:ext cx="53294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469080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ustom animation within slid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rcRect l="79527" t="11611" r="0" b="6684"/>
          <a:stretch/>
        </p:blipFill>
        <p:spPr>
          <a:xfrm>
            <a:off x="6516720" y="260280"/>
            <a:ext cx="1996920" cy="597708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 flipH="1">
            <a:off x="3276720" y="1413000"/>
            <a:ext cx="3240000" cy="936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270880" y="21337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3276720" y="1773360"/>
            <a:ext cx="3240000" cy="936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442600" y="255744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48000" y="2421000"/>
            <a:ext cx="3240000" cy="936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486520" y="320688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d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H="1" flipV="1">
            <a:off x="3492000" y="5013000"/>
            <a:ext cx="3095640" cy="647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487240" y="479124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vi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xploring movement –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e consistent, don’t overdo it!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itions between sl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y some examples yourself (you need to setup a simple presentation with 3 slid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332000" y="2708280"/>
            <a:ext cx="1511280" cy="1657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227640" y="2708280"/>
            <a:ext cx="1511280" cy="1657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781440" y="2708280"/>
            <a:ext cx="1511280" cy="1657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843280" y="3429000"/>
            <a:ext cx="936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292720" y="3429000"/>
            <a:ext cx="936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Tas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-83520" y="1647720"/>
            <a:ext cx="956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 a slide show with 3 slides which explains your life histo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utobiographical information). Make sure you u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lide ma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s between slides and animation within the sli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ages either from file or clip-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22:53:41Z</dcterms:created>
  <dc:creator>assistanthead-sec</dc:creator>
  <dc:description/>
  <dc:language>en-US</dc:language>
  <cp:lastModifiedBy>jmarshall</cp:lastModifiedBy>
  <dcterms:modified xsi:type="dcterms:W3CDTF">2008-02-21T23:32:18Z</dcterms:modified>
  <cp:revision>4</cp:revision>
  <dc:subject/>
  <dc:title>Year 8 - ICT</dc:title>
</cp:coreProperties>
</file>